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1332-69EB-4283-818C-1AB5F5B9D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2386-190F-4ECC-ABA6-0F106473B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E2D4-23B3-4E02-BC79-8E513F930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8FED-CFA2-4DD9-9016-32459798C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8E2-7F62-436B-99D3-041A5C830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13AB-EB3B-4294-A6E2-31A331EED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0AF1-3E4F-4009-90B9-C032715B0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B89F-4E66-4222-8D31-F61A62E24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4319-EF3E-4AAD-9E8E-6384E1630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CF37-3070-4E90-B8F7-1C43B0C1A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A3B4-9393-4CB0-8BEA-8F5DE5EF7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5E32-F9F4-47B8-ADFD-3D30BEFFB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AF83-13D7-40C5-85C9-AA1223A05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6937-94F1-4C50-B68D-17643442A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17EE-E455-4BD6-B325-9C797B384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1AB-BD1E-4258-ACF0-D8671149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562-37FD-4C0C-AED4-FFC05CA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E83FE-EA14-4210-B5D3-EB188D9E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87101-6EB7-43D5-8C3C-79E320FD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BE766-1CC3-4A00-8207-47117AF1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7674E-5B9D-4FD7-B8AA-4A12D94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E4CBB-23EE-4D80-9DA1-CE4533B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51E5A-F28C-49B7-A3EF-CB02447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DFE3E-2AE8-48FF-9837-F20F951A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C33AC-1BD7-451B-BF53-638BB36F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50011-4B48-4362-9DF1-3618DF94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A5A80-8940-4D44-8D16-45228D87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69E-0D0E-477C-872B-471A452F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CEBF0-D407-452F-85AD-F2F71954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F6C5F-F92F-445A-B86D-7F1BB735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8C64B-FA62-49D8-998E-4F1F2167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0C51A-6F4E-4B0D-8DEB-A9A2A190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3E50F-8937-4E8F-AAE2-7BB16EC1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E1929-8737-4A17-8ED3-567ED1C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E6F31-EDEC-4E9B-96C1-E3305062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C9398-B70B-47EB-AD1E-60A42AF0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6CEA2-1A3A-4B5E-BA4C-96F7F17B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F83A8-A921-4A90-9BCD-DD937A65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738-D572-4A6F-AD19-FA7EB260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3B443-4C16-4CD8-95BF-591F80B7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92BB8-F68D-476D-9B28-59323FA5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D5906-E8BF-424F-88B9-44DC5A14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D394C-9C36-402F-8D4B-DE3CDFF7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9D7DA-02D1-437B-8815-FB154DC8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0C24B-0E44-47D4-B734-F465B44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B193B-21B0-41F4-B470-FF0518A2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94A86-CE88-4796-93B1-060F1EAB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31989-1BAB-43BA-AAFD-2798C85A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A38D3-EE37-4687-BE81-5E6DC29F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785B-0835-4E1E-84C8-58CA2D70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8EC37-53FD-4247-9C71-1234685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7A71D-EA94-4EFA-B07E-8E638D2C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FDF1E-C139-4DD3-9319-29A2697B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7AB9B-7A3C-4131-A6A7-774061BE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F2583-C15A-460B-8DCB-E6BA6842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63A72-9483-41F1-8BEA-7027A6DE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B09D7-7035-4606-B703-D0414DB0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AD8B5-BDE7-4F40-BF56-8F82942A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17F40-C15D-4522-A5D2-ACB87FC7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6AB7F-B5F8-42C8-B8FD-C9EABB8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622B-53E5-4C31-AD1C-FEC6A61F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580E4-9134-45F7-923B-8A2453B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8F4A6-4E88-487B-80FC-3379F76B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FB811-4846-4F45-9D41-7055841E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EDED8-8695-42D3-A530-9D189FF3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DC7B7-3188-4982-A621-37E3B587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3A31-44CA-4352-90F7-60A9F03C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9D75-78CF-4A44-BE5E-622F44A9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6192-5656-4A1E-9E17-D78BA3A1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7B85-F5C6-4BA3-AB7F-B24E0067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71EE-BCBE-4F5F-ADD9-64DFCEC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494-7B29-47C6-95FC-F138BDC8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0DDC-40FD-4F82-A691-6995B29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0B9E-CE15-4A89-ACAD-CCBBAB1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C1BD-BFAC-459B-817C-A2317C92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1B1-7A51-486C-BDF4-39181FBC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F93E-50BD-4ADB-8794-AD0FB0ED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9AC6-7F2C-445C-8A1B-42473EB9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11F9D-77D0-48D6-9479-85EDD99B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0394-EC12-4AC3-8F34-69EF1EBB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4D58-C112-4155-951C-2DF3FABE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2121-D9EA-4153-97F1-DE67EB9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60F-6F62-4B8B-8AB8-5E345E1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F391-965F-4C93-B08E-3D689EE6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5B1E-A6DE-465A-9A46-953A2037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9EAE-FD82-4194-B373-48EE243F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DB08-5843-4297-95C2-5E782EF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7C0D-9B73-435A-A5F2-69151F43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B153-C462-4EA0-9C70-BAA4ED49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A76FA-20AC-4E6D-99FF-671406C1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43862-3ABC-4031-A135-ECCE0215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12CA-857E-4C96-AECB-1C6C7808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BB3B-3948-47BC-9356-D75D5591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C36-1752-4FD5-8C60-F34A924E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447D-EB96-49FE-B17D-0C8714EE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7899-E944-445E-8F7E-0C8A0938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0D6E-7DE5-48F3-8390-733D252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502F8-0ADD-4419-88CF-0DB1AEAB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864E-A095-42DC-A472-C0215415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B9B1-8F9C-46D7-8122-B483DA8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8C5B-76AD-4DAD-8231-F672E730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6880-0DD6-4710-908D-9804F671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FD03-D4AB-4853-B42D-558E04E5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1E1EE-0B3C-4FF1-918C-C4721843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C6E-A67B-4DD7-9CF4-8BED5F20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F73A9-5A17-46C8-AEAC-341F1E66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13C9C-7856-4842-AD17-42FD67BC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8307F-A8CA-4EC6-B696-2404F126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BEAC4-9F37-41F7-9CED-1A8816D5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00CC-E8F6-48F3-A81A-FCA46BDD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24E4A-02E3-4E7B-A9DC-566AA88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B2BF-6DC3-4963-9919-1EE3E05F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0BBB7-B2DE-4A1E-8C82-1E93E31F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24B5-4019-40EB-890B-4FAE4549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49A5-709B-4276-848F-3E12FD26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F04-9032-4918-BA01-23234B39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65BF9-9F93-45A6-B0E1-65E7DDB0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C690F-F53A-408D-9065-85A5D31E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F91AB-1C37-4AE6-9AE7-C55A28D6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31F8-FAAE-4002-ACAA-0A97150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ED52-3B8C-4891-8EFC-A6F7B41F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1A6F3-3627-4F47-B656-21890FBC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AC1D-7817-4D39-82E9-68B8ABCF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1B20-92AF-4821-844A-1F04CAE6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5BE1E-6C3D-4813-BACB-C3F775A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32E9-67B1-4940-ACF5-F7D2486F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82A-B224-4B23-BDD2-A93BA23B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4A8B3-BF0A-4533-A1F2-DDB7ED33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70AB2-11D5-4427-A3AC-29E6FBC8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E7C02-56DC-4E9D-8C80-716AECAA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8176-8308-4250-BAEE-BA65F72C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56F9-8F1F-43DA-A5C4-FBAB98AF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52116-F7BE-4479-A9A2-80E25D4D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D6902-4DF1-4884-A112-4BD2572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1D523-F0E5-4885-92F2-5EA6FBAD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43185-1ABB-442B-8F54-09F77850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25E86-069F-4DA9-9518-1F65512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E3D-A0ED-430E-9F6E-B86E7EC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A19E6-7950-49F3-BD76-0839F7B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0A5F-8DFD-465C-91BB-99F84E9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5659-A7E6-4CD3-848D-3FD6861E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14DB9-9A65-461D-AE80-25A1774F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CE308-7C9B-4C5F-9B65-72077C23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25F77-FABB-4C75-B0D6-58A25D4E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E2145-0427-4A30-BE12-68420AD1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A9660-1CD2-4C83-9713-48EF8D27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13EA8-E06C-4DAF-9F0B-F19EB429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E31A1-2061-4642-8D52-B13499E0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50F-DB7B-4980-9181-8D3F2721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96B78-A371-4C4D-8372-749EB42E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AADBA-42ED-4DD4-8826-910C791E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421FB-F07F-4D07-99E9-B63E0287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124CB-D7C2-411B-8A29-371233B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283D9-D18D-4BAF-AF97-BE01D1B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97BAF-7C19-4B7E-AFA6-867A16DC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2C8EE-3E66-426C-8E87-D202B6C1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A719A-8B38-4877-A384-99005E45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491D7-A79A-4DCA-9865-2E4F0172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33504-C164-4DA2-83D8-265446CA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CE06-51C2-415D-93AD-EB3203AD2354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Obdélní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89" name="Obdélník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Vývojový diagram: postup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Vývojový diagram: postup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4C48-F95A-4C82-84F3-191D7B41131B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49EE-896F-4B6C-85AB-90A12E6F0DD4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C9A-66E5-45EA-BDB3-0536F1952C10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9" name="Elipsa 12" descr=""/>
            <p:cNvPicPr/>
            <p:nvPr/>
          </p:nvPicPr>
          <p:blipFill>
            <a:blip r:embed="rId2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08F1-A5B1-4C2B-B22B-714FD858E514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063A-6750-4699-83C4-32EDCE8F4A7B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bdélní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Obdélní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6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37" name="Elipsa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9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0AE6-DC1E-401E-931E-9A3A10EA13F1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8DDD-5683-4EBC-B1CF-D051EC433B80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FB7-249F-40E3-9554-AA390C7927E0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632F-79B2-4B34-A9F7-E934C735725B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Obdélní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4E2E-0B9E-4B53-AE32-8CDAE26763D3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97A4-8E0F-4720-844B-E71C0695522F}" type="slidenum">
              <a:rPr b="0" lang="cs-CZ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76000" y="836640"/>
            <a:ext cx="74055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475320"/>
                </a:solidFill>
                <a:latin typeface="Gill Sans MT"/>
              </a:rPr>
              <a:t>Zpracování odpadu v dřevozpracujícím průmyslu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pic>
        <p:nvPicPr>
          <p:cNvPr id="524" name="scatman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5" name="Obrázek 4" descr="recycle-earth.jpg"/>
          <p:cNvPicPr/>
          <p:nvPr/>
        </p:nvPicPr>
        <p:blipFill>
          <a:blip r:embed="rId2"/>
          <a:stretch/>
        </p:blipFill>
        <p:spPr>
          <a:xfrm>
            <a:off x="3708360" y="2637000"/>
            <a:ext cx="266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475320"/>
                </a:solidFill>
                <a:latin typeface="Gill Sans MT"/>
              </a:rPr>
              <a:t>Seznam ukládaného odpadu na skládce</a:t>
            </a:r>
            <a:br>
              <a:rPr sz="3900"/>
            </a:br>
            <a:endParaRPr b="0" lang="en-US" sz="39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Odpady z lesnictv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iliny, hobliny, odřezky, dřevo, dřevotřískové desky a dýhy obsahujíc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ebezpečné látk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iliny, hobliny, odřezky, dřevo, dřevotřískové desky a dý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Činidla k impregnaci dřeva jinak blíže neurčená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Odpadní kůra a dřev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475320"/>
                </a:solidFill>
                <a:latin typeface="Gill Sans MT"/>
              </a:rPr>
              <a:t>BIOMASA</a:t>
            </a:r>
            <a:endParaRPr b="0" lang="en-US" sz="60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Biomasa vzniká díky dopadající sluneční energii. Jde o </a:t>
            </a:r>
            <a:r>
              <a:rPr b="1" lang="cs-CZ" sz="2800" spc="-1" strike="noStrike">
                <a:solidFill>
                  <a:srgbClr val="000000"/>
                </a:solidFill>
                <a:latin typeface="Gill Sans MT"/>
              </a:rPr>
              <a:t>hmotu organického původu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. Pro energetické účely se využívá buď cíleně pěstovaných rostlin nebo odpadů ze zemědělské, potravinářské nebo lesní produk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7" name="Obrázek 3" descr="biomasa_02.jpg"/>
          <p:cNvPicPr/>
          <p:nvPr/>
        </p:nvPicPr>
        <p:blipFill>
          <a:blip r:embed="rId1"/>
          <a:stretch/>
        </p:blipFill>
        <p:spPr>
          <a:xfrm>
            <a:off x="1692360" y="3789360"/>
            <a:ext cx="63752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475320"/>
                </a:solidFill>
                <a:latin typeface="Gill Sans MT"/>
              </a:rPr>
              <a:t>Formy biomasy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1628280"/>
            <a:ext cx="586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 u="sng">
                <a:solidFill>
                  <a:srgbClr val="000000"/>
                </a:solidFill>
                <a:uFillTx/>
                <a:latin typeface="Gill Sans MT"/>
              </a:rPr>
              <a:t>PILINY A HOBLINY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Gill Sans MT"/>
              </a:rPr>
              <a:t>Jde o odpad při zpracování řeziva. Na rozdíl od štěpky jsou piliny a hobliny zpravidla suché. Pro spalování se používají podobné typy kotlů jako pro spalování štěpky. Piliny a hobliny se dnes nejčastěji používají k výrobě pelet či briket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 u="sng">
                <a:solidFill>
                  <a:srgbClr val="000000"/>
                </a:solidFill>
                <a:uFillTx/>
                <a:latin typeface="Gill Sans MT"/>
              </a:rPr>
              <a:t>BRIKETY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Gill Sans MT"/>
              </a:rPr>
              <a:t>Lisováním pilin a kůry, slámy a dalších forem rozdrcené biomasy lze vyrobit pevné brikety, které mohou nahradit v krbech či kamnech kusové dřevo. Jejich velkou výhodou je vysoká hustota a malý obsah vody, nevýhodou pak cena, která je vyšší než u kusového dřeva. Podobné složení jako dřevo má také sláma (stonky obilnin)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 u="sng">
                <a:solidFill>
                  <a:srgbClr val="000000"/>
                </a:solidFill>
                <a:uFillTx/>
                <a:latin typeface="Gill Sans MT"/>
              </a:rPr>
              <a:t>PELETY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Gill Sans MT"/>
              </a:rPr>
              <a:t>Vyrábějí se nejčastěji lisováním z pilin nebo hoblin podobně jako brikety, jsou ale mnohem menší (průměr 6 až 8 mm). Díky pravidelnému tvaru pelet a jejich dobré pevnosti je možnost relativně jednoduchého automatického dávkování do spalovací komory (hořáku). Topidla na pelety proto vyžadují jen minimum obsluhy a poskytují komfort srovnatelný s plynem nebo topným olejem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Obrázek 4" descr="biomasa_57.jpg"/>
          <p:cNvPicPr/>
          <p:nvPr/>
        </p:nvPicPr>
        <p:blipFill>
          <a:blip r:embed="rId1"/>
          <a:stretch/>
        </p:blipFill>
        <p:spPr>
          <a:xfrm rot="16744200">
            <a:off x="5816160" y="167760"/>
            <a:ext cx="1347840" cy="1627200"/>
          </a:xfrm>
          <a:prstGeom prst="rect">
            <a:avLst/>
          </a:prstGeom>
          <a:ln w="0">
            <a:noFill/>
          </a:ln>
        </p:spPr>
      </p:pic>
      <p:pic>
        <p:nvPicPr>
          <p:cNvPr id="561" name="Obrázek 7" descr="biomasa_proces.gif"/>
          <p:cNvPicPr/>
          <p:nvPr/>
        </p:nvPicPr>
        <p:blipFill>
          <a:blip r:embed="rId2"/>
          <a:stretch/>
        </p:blipFill>
        <p:spPr>
          <a:xfrm>
            <a:off x="5716440" y="2708280"/>
            <a:ext cx="3427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Obrázek 1" descr="Recycle_by_jrbamberg.jpg"/>
          <p:cNvPicPr/>
          <p:nvPr/>
        </p:nvPicPr>
        <p:blipFill>
          <a:blip r:embed="rId1"/>
          <a:stretch/>
        </p:blipFill>
        <p:spPr>
          <a:xfrm>
            <a:off x="1763640" y="333360"/>
            <a:ext cx="6193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72000" y="2205360"/>
            <a:ext cx="74977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475320"/>
                </a:solidFill>
                <a:latin typeface="Gill Sans MT"/>
              </a:rPr>
              <a:t>PŘEJEME</a:t>
            </a:r>
            <a:br>
              <a:rPr sz="8000"/>
            </a:br>
            <a:r>
              <a:rPr b="1" lang="cs-CZ" sz="8000" spc="-1" strike="noStrike">
                <a:solidFill>
                  <a:srgbClr val="475320"/>
                </a:solidFill>
                <a:latin typeface="Gill Sans MT"/>
              </a:rPr>
              <a:t>PŘÍJEMNÝ ZBYTEK DNE</a:t>
            </a:r>
            <a:endParaRPr b="0" lang="en-US" sz="80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64" name="TextovéPole 2"/>
          <p:cNvSpPr/>
          <p:nvPr/>
        </p:nvSpPr>
        <p:spPr>
          <a:xfrm>
            <a:off x="1116000" y="6381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Zpracováno dne 22.11.2010 v Havířově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1618920" y="404640"/>
            <a:ext cx="72406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Lidstvo se potácí s problém, kdy existuje mnoho odpadů a my nevíme, jak je likvidovat, či je likvidujeme špatně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7" name="Obrázek 9" descr="skladka_smeti_odpadky_052_denik_clanek_solo.jpg"/>
          <p:cNvPicPr/>
          <p:nvPr/>
        </p:nvPicPr>
        <p:blipFill>
          <a:blip r:embed="rId1"/>
          <a:stretch/>
        </p:blipFill>
        <p:spPr>
          <a:xfrm>
            <a:off x="3132000" y="189000"/>
            <a:ext cx="3333960" cy="2504880"/>
          </a:xfrm>
          <a:prstGeom prst="rect">
            <a:avLst/>
          </a:prstGeom>
          <a:ln w="0">
            <a:noFill/>
          </a:ln>
        </p:spPr>
      </p:pic>
      <p:pic>
        <p:nvPicPr>
          <p:cNvPr id="528" name="Obrázek 11" descr="šrouby.jpg"/>
          <p:cNvPicPr/>
          <p:nvPr/>
        </p:nvPicPr>
        <p:blipFill>
          <a:blip r:embed="rId2"/>
          <a:stretch/>
        </p:blipFill>
        <p:spPr>
          <a:xfrm>
            <a:off x="1011240" y="4884840"/>
            <a:ext cx="2705040" cy="1968480"/>
          </a:xfrm>
          <a:prstGeom prst="rect">
            <a:avLst/>
          </a:prstGeom>
          <a:ln w="0">
            <a:noFill/>
          </a:ln>
        </p:spPr>
      </p:pic>
      <p:pic>
        <p:nvPicPr>
          <p:cNvPr id="529" name="Obrázek 12" descr="hobliny.gif"/>
          <p:cNvPicPr/>
          <p:nvPr/>
        </p:nvPicPr>
        <p:blipFill>
          <a:blip r:embed="rId3"/>
          <a:stretch/>
        </p:blipFill>
        <p:spPr>
          <a:xfrm>
            <a:off x="6300720" y="5124600"/>
            <a:ext cx="2619360" cy="17334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1476360" y="2781000"/>
            <a:ext cx="7199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Tento problém se týká i dřevozpracujícího průmyslu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Nesprávným odstraňováním našich odpadů škodíme nejen sobě, ale hlavně přírodě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777600"/>
            <a:ext cx="749952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75320"/>
                </a:solidFill>
                <a:latin typeface="Gill Sans MT"/>
              </a:rPr>
              <a:t>Mezi nejpoužívanější materiály v nábytkářském průmyslu, by se v dnešní době daly zejména zařadit:</a:t>
            </a:r>
            <a:br>
              <a:rPr sz="4400"/>
            </a:br>
            <a:endParaRPr b="0" lang="en-US" sz="44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434960" y="2349000"/>
            <a:ext cx="3657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- aglomerované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materiály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- masiv 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- ocel, hliník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300" spc="-1" strike="noStrike">
                <a:solidFill>
                  <a:srgbClr val="000000"/>
                </a:solidFill>
                <a:latin typeface="Gill Sans MT"/>
              </a:rPr>
              <a:t>- sklo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3" name="Zástupný symbol pro obsah 3" descr="12982v_sapho_Sklo_teflon_Kappa.jpg"/>
          <p:cNvPicPr/>
          <p:nvPr/>
        </p:nvPicPr>
        <p:blipFill>
          <a:blip r:embed="rId1"/>
          <a:stretch/>
        </p:blipFill>
        <p:spPr>
          <a:xfrm>
            <a:off x="5276880" y="2370240"/>
            <a:ext cx="36576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475320"/>
                </a:solidFill>
                <a:latin typeface="Gill Sans MT"/>
              </a:rPr>
              <a:t>Zpracování odpadů</a:t>
            </a:r>
            <a:endParaRPr b="0" lang="en-US" sz="43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402920" y="1292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A co se vlastně děje s těmito materiály, když nám již nejsou k užitk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Bude to znít možná podivně, ale i v tomto průmyslu hraje důležitou roli recyklace a třídění odpad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6" name="Obrázek 4" descr="odpady-třídění_329x-1.jpg"/>
          <p:cNvPicPr/>
          <p:nvPr/>
        </p:nvPicPr>
        <p:blipFill>
          <a:blip r:embed="rId1"/>
          <a:stretch/>
        </p:blipFill>
        <p:spPr>
          <a:xfrm>
            <a:off x="3263760" y="4508640"/>
            <a:ext cx="30369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87280" y="7729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475320"/>
                </a:solidFill>
                <a:latin typeface="Gill Sans MT"/>
              </a:rPr>
              <a:t>   </a:t>
            </a:r>
            <a:r>
              <a:rPr b="0" lang="cs-CZ" sz="6000" spc="-1" strike="noStrike">
                <a:solidFill>
                  <a:srgbClr val="475320"/>
                </a:solidFill>
                <a:latin typeface="Gill Sans MT"/>
              </a:rPr>
              <a:t>OCEL</a:t>
            </a:r>
            <a:endParaRPr b="0" lang="en-US" sz="60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434960" y="21571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cel se recykluje již víc než 150 let a to hlavně z ekonomických důvodů. Je totiž levnější ocel recyklovat, než těžit železnou rudu a vynakládat finance na výrobu „nové“ slitiny. Finanční nároky výroby nové slitiny jsou ve srovnání s náklady na recyklaci obrovské. Recykluje se také proto, že ocel během procesu recyklace neztrácí žádné ze svých vlastností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ecyklováním jedné tuny oceli se ušetří 1100 kg železné rudy, 630 kg uhlí a 55 kg vápence. V roce 2005 bylo recyklováno 76 milionů tun ocel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Obrázek 3" descr="hrebiky.jpg"/>
          <p:cNvPicPr/>
          <p:nvPr/>
        </p:nvPicPr>
        <p:blipFill>
          <a:blip r:embed="rId1"/>
          <a:stretch/>
        </p:blipFill>
        <p:spPr>
          <a:xfrm>
            <a:off x="4932360" y="189000"/>
            <a:ext cx="37227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1133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475320"/>
                </a:solidFill>
                <a:latin typeface="Gill Sans MT"/>
              </a:rPr>
              <a:t>HLINÍK</a:t>
            </a:r>
            <a:endParaRPr b="0" lang="en-US" sz="60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434960" y="22284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Hliník se recykluje ze stejného důvodu jako oce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Všeobecně tedy platí pravidlo, že recyklovat lze pouze ty materiály (obaly), které jsou VYROBENÉ z hliníku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Ačkoli je hliník velmi ekologicky náročný, doposud nic nebrání jeho širokému využití.  Jeho sběr (podobně jako např. papír nebo plast) neexistuje v dostatečné míře nebo vůbec.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2" name="Obrázek 3" descr="112(1).jpg"/>
          <p:cNvPicPr/>
          <p:nvPr/>
        </p:nvPicPr>
        <p:blipFill>
          <a:blip r:embed="rId1"/>
          <a:stretch/>
        </p:blipFill>
        <p:spPr>
          <a:xfrm rot="391200">
            <a:off x="3924360" y="333360"/>
            <a:ext cx="2714400" cy="990720"/>
          </a:xfrm>
          <a:prstGeom prst="rect">
            <a:avLst/>
          </a:prstGeom>
          <a:ln w="0">
            <a:noFill/>
          </a:ln>
        </p:spPr>
      </p:pic>
      <p:pic>
        <p:nvPicPr>
          <p:cNvPr id="543" name="Obrázek 4" descr="dverni_klika4.jpg"/>
          <p:cNvPicPr/>
          <p:nvPr/>
        </p:nvPicPr>
        <p:blipFill>
          <a:blip r:embed="rId2"/>
          <a:stretch/>
        </p:blipFill>
        <p:spPr>
          <a:xfrm>
            <a:off x="7380360" y="0"/>
            <a:ext cx="720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rázek 8" descr="fotografovani-skla-01b.jpg"/>
          <p:cNvPicPr/>
          <p:nvPr/>
        </p:nvPicPr>
        <p:blipFill>
          <a:blip r:embed="rId1"/>
          <a:stretch/>
        </p:blipFill>
        <p:spPr>
          <a:xfrm>
            <a:off x="3151080" y="-316080"/>
            <a:ext cx="5092920" cy="35071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1061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475320"/>
                </a:solidFill>
                <a:latin typeface="Gill Sans MT"/>
              </a:rPr>
              <a:t>SKLO</a:t>
            </a:r>
            <a:endParaRPr b="0" lang="en-US" sz="60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434960" y="2409840"/>
            <a:ext cx="74995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V případě recyklace skla jde o to, že sklo jako konečný produkt vstupuje znovu po použití do výroby jako druhotná surovina, aniž by ztratilo jakoukoli vlastnost, která by snížila jeho užitnou hodnot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Tak vlastně může sklo teoreticky cirkulovat do nekonečna. Oproti řadě jiných obalových materiálů má tu výhodu, že nemusí být před znovupoužitím nijak náročně upravováno. Pouze se rozdrtí na skelný písek. K tomu slouží moderní recyklační link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Obrázek 3" descr="DTD.jpg"/>
          <p:cNvPicPr/>
          <p:nvPr/>
        </p:nvPicPr>
        <p:blipFill>
          <a:blip r:embed="rId1"/>
          <a:stretch/>
        </p:blipFill>
        <p:spPr>
          <a:xfrm>
            <a:off x="6794640" y="3886200"/>
            <a:ext cx="2349360" cy="29718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475320"/>
                </a:solidFill>
                <a:latin typeface="Gill Sans MT"/>
              </a:rPr>
              <a:t>AGLOMEROVANÉ MATERIÁLY</a:t>
            </a:r>
            <a:br>
              <a:rPr sz="4300"/>
            </a:br>
            <a:r>
              <a:rPr b="0" lang="cs-CZ" sz="1600" spc="-1" strike="noStrike">
                <a:solidFill>
                  <a:srgbClr val="475320"/>
                </a:solidFill>
                <a:latin typeface="Gill Sans MT"/>
              </a:rPr>
              <a:t> </a:t>
            </a:r>
            <a:r>
              <a:rPr b="0" lang="cs-CZ" sz="2000" spc="-1" strike="noStrike">
                <a:solidFill>
                  <a:srgbClr val="475320"/>
                </a:solidFill>
                <a:latin typeface="Gill Sans MT"/>
              </a:rPr>
              <a:t>DVD, DVDT, DTD,DTD-L,PDP, PID, PTD, OSB, MDF, DVI, HDF, VTD</a:t>
            </a:r>
            <a:endParaRPr b="0" lang="en-US" sz="20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434960" y="1447920"/>
            <a:ext cx="75297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Zbylé odpady lze je použít např. pro výrobu DT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Řadí se jako druh odpadu 030105 - piliny, hobliny, odřezky, dřevo, dřevotřískové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desky a dýhy. Nejvhodnější způsob likvidace vzniklých odpadů je jeho další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využití (při výrobě třískových nebo pilinových desek), případně spalování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ebo skládkování (skládka skupiny S)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475320"/>
                </a:solidFill>
                <a:latin typeface="Gill Sans MT"/>
              </a:rPr>
              <a:t>Seznam povolených odpadů určených k likvidaci pálením ve spalovně.</a:t>
            </a:r>
            <a:endParaRPr b="0" lang="en-US" sz="3900" spc="-1" strike="noStrike">
              <a:solidFill>
                <a:srgbClr val="475320"/>
              </a:solidFill>
              <a:latin typeface="Gill Sans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434960" y="1989000"/>
            <a:ext cx="749952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Piliny, hobliny, odřezky, dřevo, dřevotřískové desky a dýhy obsahující nebezpečné látk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Piliny, hobliny, odřezky, dřevo, dřevotřískové desky a dýh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Dřevo obsahující nebezpečné látk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Nehalogenovaná organická činidla k impregnaci dřev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Odpady z lesnictví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Odpadní kůra a korek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Odpadní kůra a dřev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2" name="Obrázek 4" descr="110200-original-vfhnc.jpg"/>
          <p:cNvPicPr/>
          <p:nvPr/>
        </p:nvPicPr>
        <p:blipFill>
          <a:blip r:embed="rId1"/>
          <a:stretch/>
        </p:blipFill>
        <p:spPr>
          <a:xfrm>
            <a:off x="5796000" y="4437000"/>
            <a:ext cx="29574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a</dc:creator>
  <dc:description/>
  <dc:language>en-US</dc:language>
  <cp:lastModifiedBy>eva</cp:lastModifiedBy>
  <dcterms:modified xsi:type="dcterms:W3CDTF">2011-04-10T04:56:21Z</dcterms:modified>
  <cp:revision>45</cp:revision>
  <dc:subject/>
  <dc:title>Zpracování odpadu v dřevozpracujícím průmyslu</dc:title>
</cp:coreProperties>
</file>