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71B6-8804-467B-8F14-01BB848E108E}"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8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FE54-AC56-416B-BFC4-C8CF8DFD676C}"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1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3DB8-54C2-451E-893D-F6355CE6BD52}"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1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83AE-6EDD-4B15-AD50-799065AAF7F3}"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2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B399-876E-4458-ABCF-707F3E5F4803}"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2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23BE-A0EE-4B91-8453-F9014526D6D1}"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2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9BE0-49C0-4EDF-B564-5AF7E5855C66}"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3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338D-E16B-4772-9513-2AB52D1DF6EA}"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3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C328-0B67-4FFE-951F-330560802C4B}"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3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94C5-BCCC-4314-B63C-2725F66AF01B}"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4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90AF-60B4-4F58-AC1B-40884E62840D}"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4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7D46-8424-4F34-B805-7488CDD23C3F}"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9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034D-AFA3-4348-9C8C-6FBE42700C59}"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4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98D8-D1A7-4576-A64D-83696FB9B2A2}"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9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9DFA-0414-4DCF-B400-139950269A95}"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9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4674-AE65-4E6B-AA84-1F06E89CD1D4}"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C431-13CC-4059-AC17-2AD21CF7DB8B}"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789C-C841-44AE-94C6-6B1783E9A13B}"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2052-E6FC-4E90-9B76-4012DC1EC4E1}"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1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E6F5-FAB4-4B77-A954-FCF183D9FCE9}"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1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237F-03C8-4E9F-B251-021A2EC99B84}"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890B2-E071-42A8-B51C-B3491714E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0392-59BE-441C-9653-58F136FB2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F9C23-8BEE-4381-8F3F-646EDF07C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9A805-9430-48F1-BC59-8CB08C706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1D931-1A6D-4907-80BA-1FD71BB97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0201-A69A-4D36-8139-35E4C810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45BB-6E5E-4ED8-A79F-1F49DBA6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D93D-23D0-4794-8FC4-F7281B78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159D-897F-4931-8A5E-9C439AE6F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0D07-D6D4-4221-A1C4-DFCBF7A2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E2D2A-6F0E-49B6-BE9B-E2081AF2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0385D-ABF1-4310-87E9-4A007CE5C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177A-823B-4D17-9184-E38CA1D291EB}"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lastnosti domácích dřev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Javor</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     </a:t>
            </a:r>
            <a:r>
              <a:rPr b="0" lang="cs-CZ" sz="2500" spc="-1" strike="noStrike">
                <a:solidFill>
                  <a:srgbClr val="000000"/>
                </a:solidFill>
                <a:latin typeface="Calibri"/>
              </a:rPr>
              <a:t>Javorové dřevo patří k nejsvětlejším z našich dřev, je smetanově slonovinově bílé, nebo krémové. Okolo dřeně či suků se někdy objevují zelené nebo černohnědé pruhy a skvrny. Někdy se tvoří široká, tmavá, nepravidelně ohraničená dřeň. Jádro jinak není barevně odlišeno. Dřevo je tvrdé a lesklé. Dobře se opracovává, soustruží, moří, bez problémů přijímá lepidlo. Často se ještě vyběluje peroxidem a čpavkem. Kvůli kontrastu se používá v nábytkářství v dýhách i v masivu. Pro svou dekorativnost je vzácný tzv. „očkový" javor. Pro vykládání nábytku se vyhledávala i tzv. kořenovice. Rovněž známé je tzv. vlnkování javoru, jež se dodnes využívá na zadní desky a luby viol, houslí nebo kyta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Líp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3200" spc="-1" strike="noStrike">
                <a:solidFill>
                  <a:srgbClr val="000000"/>
                </a:solidFill>
                <a:latin typeface="Calibri"/>
              </a:rPr>
              <a:t>Smetanově až žluto či šedobíle zbarvené, poměrně pevné, měkké dřevo je stejnoměrně husté. Není příliš trvanlivé a musí se chránit zejména před červotočem. Po kvalitním vysušení se nebortí a málo sesychá. Dobře přijímá lepidlo, dobře se tónuje a moří. Lze je čistě řezat dláty, a to i přes vlákna. Lípa je především nepostradatelným materiálem pro řezbář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Modří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Modřínové dřevo je polotvrdé, tvrdší než smrkové nebo borové, pevné a trvanlivé. Bělová vrstva je světle žlutohnědá, jádro okrové až červenohnědé. Na vzduchu a po napuštění tmavne. Texturu (kresba letokruhů) má hustší než smrk a vyniká krásou mnoha drobných, většinou dobře zarostlých součků. Dobře se obrábí, nezalepuje tolik nástroje jako borovice a lépe přijímá lepidla i napouštění. Používá se k výrobě  šindelů, masivního nábytku, schodů, zábradlí, obložení ap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Olš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Dřevo je žluté, někdy narůžovělé až šedooranžové. Je stejnoměrné, bez výrazných letokruhů a barevně odlišeného jádra. Je měkké, pevné, snadno se štípe, dá se řezat dláty i přes vlákna. Dobře přijímá lepidlo. V řezbářství je hned po lipovém nejoblíbenější, ale stejně jako lipové dřevo trpí červotočem. V rukodělné řemeslné výrobě se olšové dřevo využívá na nádobí - necičky, mísy, okříny i troky na paření prasat. Umělečtí truhláři mořeným olšovým dřevem nahrazovali mimo jiné mahagon nebo palisand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Ořech</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Ořechové dřevo je velmi ceněné, zvláště o starší, zdravé a silné stromy mají velký zájem dýhárny. Běl má šedobílou, někdy s jasně žlutými skvrnami na okrajích směrem k lýku. Jádro je proměnlivé, ale většinou tmavohnědé. Bývá černě ohraničeno a barva závisí na půdních podmínkách. Je tvrdé a pevné, díky obsahu třísla poměrně trvanlivé. Dobře se obrábí, ohýbá, soustruží i řeže dláty. Odedávna se používalo k dýhování i vykládání (intarzi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Smrk</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Dřevo smrku je smetanově bílé až nahnědlé, s výraznými letokruhy. Na všech třech řezech (příčný, podélný, tečný) snadno zaznamenáme zřetelné barevné odlišení jarní a letní přírůstkové vrstvy dřeva. Jádro není barevně odlišeno, a pokud se místy (od oddenku) vyskytuje tmavší zahnědnutí, jedná se o vadu, počátek hniloby. Smrk je i přes svou měkkost houževnatý, poměrně pevný a pružný. Smrkové dřevo má velmi výhodné vlastnosti pro opracování, proto se smrk stal, díky člověku, naším nejrozšířenějším stromem. Dobře se řeže, hobluje, frézuje, klíží, moří, natírá a barví. Poměrně málo se bortí a sesychá. V suchu je velmi trvanliv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Švestka</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3200" spc="-1" strike="noStrike">
                <a:solidFill>
                  <a:srgbClr val="000000"/>
                </a:solidFill>
                <a:latin typeface="Calibri"/>
              </a:rPr>
              <a:t>Dřevo je husté, stejnoměrné a velmi tvrdé. Lze využívat jen menší kusy, které se však musí sušit zatížené a pomalu, protože dřevo se silně kroutí a praská. Běl je úzká, žlutá, někdy našedlá, jádro růžovo až červenohnědé. Dobře se soustruží i řeže. Na nábytku může být funkční ozdobou. Patří do dílen šperkařů, restaurátorů či výrobců exkluzivního nábytku. Spolu s višní je nejlepším dřevem na „domácí" uzení.</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Topol</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	</a:t>
            </a:r>
            <a:r>
              <a:rPr b="0" lang="cs-CZ" sz="3200" spc="-1" strike="noStrike">
                <a:solidFill>
                  <a:srgbClr val="000000"/>
                </a:solidFill>
                <a:latin typeface="Calibri"/>
              </a:rPr>
              <a:t>Topolové dřevo je měkké, řídké, nepříliš pevné, na řezu chlupaté. Je lehké. Dobře se moří a přijímá všechny druhy lepidel, protože hodně saje. Používá se na krájení dýhy na tzv. poddýžky. Dobře vyschlý se dá použít jako obklad do suchých saun, neuvolňuje pryskyři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Třešeň</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Dřevo je tvrdé, pevné, pružné a houževnaté, s poměrně výraznými letokruhy. Bělová část je úzká, smetanově narůžovělá až žlutá, jádro červenohnědé, na vzduchu časem červená a tmavne. Třešně rostoucí v lesních porostech mívají dřevo trochu tmavší. Krájené dýhy, masivní fošny nebo prkna upoutávají výraznou kresbou. Dobře se obrábí, má mírný lesk. Špatně se řeže dláty přes vlákna, ale pro soustružení a truhlářské práce je vhodné. Hodně se bortí a „pracuje", přířezy je nutno sušit pomalu a důkladně je proložit. Používá se v nábytkářství, v uměleckém truhlářství, pro výrobu židlí, stolků, podstavců, ostění, říms, sloupků zábradlí i leštěných vykládaných kazetových stropů.</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Vrb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Dřevo vrby je bílé až žlutobílé, s narůžovělým nádechem. Nepříliš výrazně ohraničené jádro bývá podle podmínek a stavu kmene růžové, cihlově červené apod. Je měkké, nepříliš pevné, dobře se moří a dobře přijímá lepidlo. Chlupatí a hůře se brousí a leští. V masivu se používá málo. Dříve se z něj vyrábělo dlabané nádobí, necky, okříny (dlabané mísy) apod. Větve jsou pružné a poměrně pevné, dělávaly se z nich násady k lehkým, přesýpacím lopatám na obilí, obruče k sudům a kádím apo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pl-PL" sz="2700" spc="-1" strike="noStrike">
                <a:solidFill>
                  <a:srgbClr val="000000"/>
                </a:solidFill>
                <a:latin typeface="Calibri"/>
              </a:rPr>
              <a:t>Jinak je vrba strom košíkářů.</a:t>
            </a:r>
            <a:r>
              <a:rPr b="0" lang="cs-CZ"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Aká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Od úzké hnědobílé běli jde ke dřeni žlutozeleněhnědavá barva, s rozdílnou, mnohdy zajímavou kresbou. Letokruhy jsou dobře viditelné. Dřevo je těžké, velmi tvrdé, značně pružné a houževnaté. Dobře odolává vodě i počasí. Poměrně dost „pracuje", trhá se a bortí. Při rychlém sušení praská. Ideálně se hodí na silně namáhané násady, topůrka a rukojeti. Naši předkové dřevo akátu používali v kolářství. Čepy a klíny z něj jsou pevné a trvanlivé.</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65000"/>
            <a:ext cx="777240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Calibri"/>
              </a:rPr>
              <a:t>Děkuji za pozornost</a:t>
            </a:r>
            <a:br>
              <a:rPr sz="3600"/>
            </a:br>
            <a:br>
              <a:rPr sz="3600"/>
            </a:br>
            <a:br>
              <a:rPr sz="3600"/>
            </a:br>
            <a:br>
              <a:rPr sz="3600"/>
            </a:br>
            <a:endParaRPr b="0" lang="en-US" sz="3600" spc="-1" strike="noStrike">
              <a:solidFill>
                <a:srgbClr val="000000"/>
              </a:solidFill>
              <a:latin typeface="Calibri"/>
            </a:endParaRPr>
          </a:p>
        </p:txBody>
      </p:sp>
      <p:sp>
        <p:nvSpPr>
          <p:cNvPr id="86" name="Obdélník 7"/>
          <p:cNvSpPr/>
          <p:nvPr/>
        </p:nvSpPr>
        <p:spPr>
          <a:xfrm>
            <a:off x="755640" y="5013360"/>
            <a:ext cx="7777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rPr>
              <a:t>zpracovala: Wolná Eva</a:t>
            </a:r>
            <a:br>
              <a:rPr sz="1600"/>
            </a:br>
            <a:r>
              <a:rPr b="0" lang="cs-CZ" sz="1600" spc="-1" strike="noStrike">
                <a:solidFill>
                  <a:srgbClr val="000000"/>
                </a:solidFill>
                <a:latin typeface="Calibri"/>
              </a:rPr>
              <a:t>citováno z: </a:t>
            </a:r>
            <a:r>
              <a:rPr b="0" i="1" lang="cs-CZ" sz="1600" spc="-1" strike="noStrike">
                <a:solidFill>
                  <a:srgbClr val="000000"/>
                </a:solidFill>
                <a:latin typeface="Calibri"/>
              </a:rPr>
              <a:t>Mezi stromy : Lesnicko-dřevařský vzdělávací portál</a:t>
            </a:r>
            <a:r>
              <a:rPr b="0" lang="cs-CZ" sz="1600" spc="-1" strike="noStrike">
                <a:solidFill>
                  <a:srgbClr val="000000"/>
                </a:solidFill>
                <a:latin typeface="Calibri"/>
              </a:rPr>
              <a:t> [online]. 2007 [cit. 2010-06-25]. Vlastnosti dřeva. Dostupné z WWW: &lt;www.mezistromy.cz&gt;.</a:t>
            </a:r>
            <a:br>
              <a:rPr sz="1600"/>
            </a:br>
            <a:r>
              <a:rPr b="0" lang="cs-CZ"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Borovice</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Dřevo borovice je měkké, křehčí než smrkové, bělová část je smetanově bílá až k okru, jádro oranžově hnědé až dorezava. Letokruhy jsou výrazné. Bělové dřevo trpívá charakteristickým zamodráváním došeda, což se považuje za vadu na kráse. Díky odolnosti se borové dřevo používá především na okna a dveře, včetně rámů. Také se dobře uplatní na trámoví, podvaly a „polštáře" pod podlahy. Mořidla i nátěry přijímá hůře než smrk. Jádrové dřevo se také hůře lepí. Největší nevýhodou při obrábění a broušení je však silné zanášení nástrojů a brusiva pryskyřicí.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Bříz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Dřevo břízy je smetanově bílé, někdy našedlé, nahnědlé i narůžovělé, bez lesku. Je stejnoměrně husté, středně tvrdé, pevné, dobře se ohýbá. Za syrova se řeže (dláty) mnohem lépe než po vyschnutí. Jako ostatně většina dřev. Špatně odolává vlivu počasí, podléhá zvláště hnilobě a houbám. Vždy se používalo na topení, hlavně v polenech do krbů, hoří i syrové. Při sušení na vzduchu proschne bez prasknutí na obvodu i v kulatině (do průměru cca 15 cm), proto je odedávna mají v oblibě především soustružníci. Dodnes se z něj točí korbele, vázy, svícny, kořenky či slánky. Dobře se moří i přijímá lepidlo. Vzrostlé silné kmeny se krájejí i na dýhy. Dodnes se vyrábějí z březových větviček košťat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Buk</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alibri"/>
              </a:rPr>
              <a:t>    </a:t>
            </a:r>
            <a:r>
              <a:rPr b="0" lang="cs-CZ" sz="3000" spc="-1" strike="noStrike">
                <a:solidFill>
                  <a:srgbClr val="000000"/>
                </a:solidFill>
                <a:latin typeface="Calibri"/>
              </a:rPr>
              <a:t>Bukové dřevo patří z listnáčů k nejznámějším. Je tvrdé, málo pružné, poměrně pevné. Barvu má světle hnědou až narůžovělou, pařením získá tmavší, charakteristickou barvu. Je stejnorodé a husté. Bukové dřevo proslavila mimo jiné firma Thonet známými „thonetkami", židlemi z ohýbaného dřeva, které se stále vyrábějí. Používá se v nábytkářství, na ohýbaný nábytek i na krájení dýh, převážně pro „levné" použití, např. na překližky. Trvanlivostí nevyniká, ale velmi dobře se obrábí, moří a lepí. V neposlední řadě je výborné i na topení.</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Dub</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Calibri"/>
              </a:rPr>
              <a:t>     </a:t>
            </a:r>
            <a:r>
              <a:rPr b="0" lang="cs-CZ" sz="2500" spc="-1" strike="noStrike">
                <a:solidFill>
                  <a:srgbClr val="000000"/>
                </a:solidFill>
                <a:latin typeface="Calibri"/>
              </a:rPr>
              <a:t>Dubové dřevo je jedno z nejžádanějších už odedávna. Má poměrně úzkou, světlehnědou běl a široké, stejnoměrně hnědě zbarvené jádro. Na středovém a tečném řezu se objevují výrazná „zrcátka" (přeříznuté dřeňové paprsky). Díky jim lze bezpečně rozeznat dub od jilmu či jasanu. Základními vlastnostmi dubového dřeva jsou tvrdost, pevnost, houževnatost a trvanlivost. Z našich dřev nejdéle vzdoruje nejen povětrnostním podmínkám, ale i střídání vlhka a sucha. Vyráběly se z něj mlýnská kola, hamry, piloty k mostům a lávky, sudy. Dubové dřevo bylo za všech dob oblíbeno v nábytkářství. V Anglii po něm pojmenovali celý věk - age of oak (1500 - 1600). Využívalo se v masivu i na krájení dýh. S dubem pracovali a pracují řezbáři a sochaři, dá se řezat dláty i napříč vláknům. Dobře se lepí i moř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Habr</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Habr je z našich dřev nejtvrdší a touto vlastností se může srovnávat jen s některým akátem či javorem - babykou. Dřevo je husté, stejnoměrně šedobílé až hnědobílé. Barevné změny lze najít u starších kusů okolo dřeně. Po vyschnutí je stálé. Porušuje však pravidlo o trvanlivosti tvrdých a těžkých dřev: leží-li ve vlhku, venku na zemi, brzy „zpuchří" a začne se rozkládat. Ale ani stojící nevydrží příliš dlouho odolávat povětrnostním vlivům. Dobře přijímá lepidlo i mořidla, je bez lesku. Napodoboval se jím eben. Dodnes se používá na čepy, palice i šrouby, na klíny, na hoblíky, rukojeti apod. Kvůli stálosti a tvrdosti je velmi důležitý i pro výrobu hudebních nástrojů.</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Hrušeň</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Dřevo je houževnaté, pevné, tvrdé a stejnoměrně husté, bez lesku. Je většinou šedohnědobílé, u starších stromů se objevuje vyrudlé až cihlově červené nepravidelné jádro. Na tečném řezu mívá jemnou, něžnou kresbu. Po vyschnutí poměrně málo „pracuje", nebortí se. Používá se proto na výrobu dřevěných závitů, šroubovic a lisů. Výborně se soustruží a brousí. Dobře přijímá lepidla i mořidla, nábytkáři jím často napodobovali eben. Je kvalitní pro přípravu lepených bloků pro sochy nebo reliéfy, zvláště když se vyžaduje stejnorodost - jednota materiálu. Vyráběly se z něj i různé geometrické pomůck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alibri"/>
              </a:rPr>
              <a:t>Jasa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Calibri"/>
              </a:rPr>
              <a:t>    </a:t>
            </a:r>
            <a:r>
              <a:rPr b="0" lang="cs-CZ" sz="2700" spc="-1" strike="noStrike">
                <a:solidFill>
                  <a:srgbClr val="000000"/>
                </a:solidFill>
                <a:latin typeface="Calibri"/>
              </a:rPr>
              <a:t>Běl, u mladých stromů široká, u starých užší, je smetanově bílá, u některých jedinců bělejší než javorová, jindy narůžovělá. Jádro bývá nepravidelně ohraničené, tmavohnědé. Výrazné letokruhy vytvářejí krásnou kresbu, která má na starém nábytku nazlátlý lesk. Šikmo řezané pásky se používaly k vykládání. Dřevěné obklady, prkna či dýhy jsou nejžádanější tam, kde se objevuje kontrast jádra běli, nebo v místech srůstu. Dobře se opracovává, soustruží i leští. Dřevo je pevné, tvrdé, houževnaté a z našich dřevin nejpružnější. Používá se proto na výrobu lyží, saní, topůrek či madel a dodnes se z něho zhotovuje tělocvičné nářadí.</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5:07:14Z</dcterms:created>
  <dc:creator>eva</dc:creator>
  <dc:description/>
  <dc:language>en-US</dc:language>
  <cp:lastModifiedBy>eva</cp:lastModifiedBy>
  <dcterms:modified xsi:type="dcterms:W3CDTF">2011-04-11T08:38:00Z</dcterms:modified>
  <cp:revision>6</cp:revision>
  <dc:subject/>
  <dc:title>Vlastnosti dřeva</dc:title>
</cp:coreProperties>
</file>