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C07C-C1B3-47D4-A1E9-BCEA716EB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276F-055B-4232-9588-F8BB03895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8D48-700E-49C6-9E6C-F8B96CB3D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CF4-81FD-4ADE-8D5C-F9C135120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AE3-7B94-4665-B6A6-096246DD0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F0EE-126B-4A27-8DC1-51BC2807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F391-F09F-43A3-BBF0-2B50CA590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B95C-1CD5-4DD2-803D-C22FA551D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CB6-66A5-4F31-8A4A-2E3747841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5B7-65CF-4419-A0E9-9F9578DD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1FA-CCF3-4AC1-A049-C20CF3DD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034-1CC1-41D1-805E-101B468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C2E-2EED-4285-BC5D-6F46BC08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F91-AAAF-4391-AB20-ED02309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10B-3C24-44A4-8C57-36D19E45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B10-6440-450F-9D43-A624A77A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AB2-E74A-4BAC-8627-0604C02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81C-2A12-495F-9DE5-70F583F3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BCD-5EE2-4FE6-9AB4-C6B8664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397-EC46-46F1-AEF1-23BBF3D5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235-6018-4599-B5B0-A7441A3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43C0-5375-402D-8713-7F01641E0A3B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ymbol „Zákaz“ 3"/>
          <p:cNvSpPr/>
          <p:nvPr/>
        </p:nvSpPr>
        <p:spPr>
          <a:xfrm>
            <a:off x="1928880" y="857160"/>
            <a:ext cx="5143320" cy="5143680"/>
          </a:xfrm>
          <a:custGeom>
            <a:avLst/>
            <a:gdLst>
              <a:gd name="textAreaLeft" fmla="*/ 753120 w 5143320"/>
              <a:gd name="textAreaRight" fmla="*/ 4390200 w 5143320"/>
              <a:gd name="textAreaTop" fmla="*/ 753120 h 5143680"/>
              <a:gd name="textAreaBottom" fmla="*/ 4390560 h 5143680"/>
            </a:gdLst>
            <a:ahLst/>
            <a:rect l="textAreaLeft" t="textAreaTop" r="textAreaRight" b="textAreaBottom"/>
            <a:pathLst>
              <a:path w="5143500" h="5143500">
                <a:moveTo>
                  <a:pt x="0" y="2571750"/>
                </a:moveTo>
                <a:lnTo>
                  <a:pt x="0" y="2571750"/>
                </a:lnTo>
                <a:arcTo wR="2571750" hR="2571750" stAng="-10799996" swAng="5400001"/>
                <a:lnTo>
                  <a:pt x="2571754" y="3"/>
                </a:lnTo>
                <a:arcTo wR="2571750" hR="2571750" stAng="-5399996" swAng="5400001"/>
                <a:lnTo>
                  <a:pt x="5143501" y="2571757"/>
                </a:lnTo>
                <a:arcTo wR="2571750" hR="2571750" stAng="0" swAng="5400001"/>
                <a:lnTo>
                  <a:pt x="2571750" y="5143507"/>
                </a:lnTo>
                <a:arcTo wR="2571750" hR="2571750" stAng="5400001" swAng="5400003"/>
                <a:close/>
                <a:moveTo>
                  <a:pt x="3986970" y="3333791"/>
                </a:moveTo>
                <a:lnTo>
                  <a:pt x="3986970" y="3333791"/>
                </a:lnTo>
                <a:arcTo wR="1607344" hR="1607344" stAng="1698044" swAng="-8796093"/>
                <a:close/>
                <a:moveTo>
                  <a:pt x="1156530" y="1809709"/>
                </a:moveTo>
                <a:lnTo>
                  <a:pt x="1156530" y="1809709"/>
                </a:lnTo>
                <a:arcTo wR="1607344" hR="1607344" stAng="-9101959" swAng="-8796095"/>
                <a:close/>
              </a:path>
            </a:pathLst>
          </a:custGeom>
          <a:solidFill>
            <a:srgbClr val="c00000"/>
          </a:solidFill>
          <a:ln w="2556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1785600"/>
            <a:ext cx="7772400" cy="301140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ábytkářské materiály škodící zdraví a ekolog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8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Každý den se setkáváme s látkami, jenž o hrožují naše zdraví či ekolog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č jde o různé látky,výrobu, či těžby surovin narušujeme svou imunitu, znečišťujeme svou planetu a rozebíráme j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pistala.jpg"/>
          <p:cNvPicPr/>
          <p:nvPr/>
        </p:nvPicPr>
        <p:blipFill>
          <a:blip r:embed="rId1"/>
          <a:stretch/>
        </p:blipFill>
        <p:spPr>
          <a:xfrm>
            <a:off x="281160" y="2706840"/>
            <a:ext cx="3284280" cy="417492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5" descr="tezba-kamene.jpg"/>
          <p:cNvPicPr/>
          <p:nvPr/>
        </p:nvPicPr>
        <p:blipFill>
          <a:blip r:embed="rId2"/>
          <a:stretch/>
        </p:blipFill>
        <p:spPr>
          <a:xfrm>
            <a:off x="5456160" y="3432240"/>
            <a:ext cx="2627280" cy="192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7120" y="5285880"/>
            <a:ext cx="3657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vní lepidla byla z přírodní gumy a pryskyři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pro obsah 5" descr="lepidlo tekutý hřebik.jpg"/>
          <p:cNvPicPr/>
          <p:nvPr/>
        </p:nvPicPr>
        <p:blipFill>
          <a:blip r:embed="rId1"/>
          <a:stretch/>
        </p:blipFill>
        <p:spPr>
          <a:xfrm>
            <a:off x="428760" y="2428920"/>
            <a:ext cx="3657600" cy="244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4429080"/>
            <a:ext cx="36576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První prokázané použití lepidla je z doby 4000 př. n.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epení znamená spojení dvou různých ploch prostřednictvím lepidl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délník 4" descr=""/>
          <p:cNvPicPr/>
          <p:nvPr/>
        </p:nvPicPr>
        <p:blipFill>
          <a:blip r:embed="rId2"/>
          <a:stretch/>
        </p:blipFill>
        <p:spPr>
          <a:xfrm>
            <a:off x="2352600" y="152280"/>
            <a:ext cx="3700440" cy="118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36576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pidla dělíme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00120"/>
            <a:ext cx="365760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rganické :               -žicočišné                   -rostl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organic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yntetické :               -Termoreaktiv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Termoplastick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9080" y="1143000"/>
            <a:ext cx="36576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le tvaru se dělí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4560" y="2356920"/>
            <a:ext cx="3314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ekut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áš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astovi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pěně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ranulova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ó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picí pá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500" autoRev="1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36576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ŠKODLIVOST LEPIDE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120" y="142848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epíte pneumatiky lepidlem Jin Shong Che? Má v sobě 33 procent benzenu, ačkoliv by ho tam nemělo být víc než 0,1 procen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epidlo LEABOND K40 a mnoho dalších obsahují zdraví škodlivý kyanoakrylát. Jedná se o látku dráždivou: Xi – dráždivý. Při práci s ním dodržujte obecně platné hygienické návyky (nejíst, nepít, nekouřit). Zejména dbejte na ochranu oč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57800" y="714240"/>
            <a:ext cx="3657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Fenolformaldehydová lepid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užívají se fenolformaldehydové resoly rozpustné ve vodě, nebo trikresolformaldehydové resoly. Vytvrzují pomocí kyseliny paratoluensulfonové (montážní lepidlo) Kyselé katalyzátory mají agresivní účinek na dřevo (částečná depolymerace celulózy) a na kování výrobků lepených za studena. V lepidlech zůstává po vytvrzení nereagované určité množství volného fenolu a volného formaldehydu, které znečišťují pracovní prostředí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 škodí zdraví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94400" y="4280040"/>
            <a:ext cx="2840040" cy="3840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558ed5"/>
                </a:solidFill>
                <a:latin typeface="Calibri"/>
              </a:rPr>
              <a:t>Další druhy škodících lepidel, čističů a aktivátor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36576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ermabond C6 – 105 (speciální vteřinové lepidl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00040" y="2500200"/>
            <a:ext cx="1000080" cy="2171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3280" y="1285920"/>
            <a:ext cx="3657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mabond C 737 – BLACK MAGIC (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peciální vteřinové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pidl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71760" y="2428920"/>
            <a:ext cx="2714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ízká viskozita. Vysoká pevnost. Rychlá manipulační pev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áždí oči, dýchací orgány a kůž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28760" y="5000760"/>
            <a:ext cx="1055520" cy="14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TextovéPole 9" descr=""/>
          <p:cNvPicPr/>
          <p:nvPr/>
        </p:nvPicPr>
        <p:blipFill>
          <a:blip r:embed="rId3"/>
          <a:stretch/>
        </p:blipFill>
        <p:spPr>
          <a:xfrm>
            <a:off x="5437080" y="2457360"/>
            <a:ext cx="3011760" cy="237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4429080" y="2428920"/>
            <a:ext cx="1000080" cy="24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5"/>
          <a:stretch/>
        </p:blipFill>
        <p:spPr>
          <a:xfrm>
            <a:off x="5786280" y="5072040"/>
            <a:ext cx="1055880" cy="14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5438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558ed5"/>
                </a:solidFill>
                <a:latin typeface="Calibri"/>
              </a:rPr>
              <a:t>Další druhy škodících lepidel, čističů a aktivátor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36576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mabond CLEANER A (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ti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13920" y="1999800"/>
            <a:ext cx="2900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Čistič na plochy, které jsou určené k lepení lepidly PERMABO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 11 Vysoce hořlav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R 38 Dráždí k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ž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 50/53 Vysoce toxický pro vodní organismy, může vyvolat dlouhodobé nepříznivé účinky 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ve vodním prost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ř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dí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 65 Zdraví škodlivý: při požití může vyvolat poškození pli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R 67 Vdechování par může způsobit ospalost a závrať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0" y="1000080"/>
            <a:ext cx="36576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ermabond Polyolefin Primer (aktivát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571720" y="1999800"/>
            <a:ext cx="2957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užívá se k lepení těžkolepitelných plastických hmot jako jsou Polypropylen (PP), Polyethylen (PE) Silikon a PTF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 11 Vysoce hořlav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R 38 Dráždí k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ž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 50/53 Vysoce toxický pro vodní organism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 65 Zdraví škodlivý: při požití může vyvolat poškození pli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 67 Vdechování par může způsobit ospalost a závra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911160" cy="230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572000" y="2714760"/>
            <a:ext cx="905040" cy="2252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1428840" y="5286240"/>
            <a:ext cx="914400" cy="14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4000680" y="5286240"/>
            <a:ext cx="947520" cy="141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6215040" y="5357880"/>
            <a:ext cx="961920" cy="134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ovéPole 7"/>
          <p:cNvSpPr/>
          <p:nvPr/>
        </p:nvSpPr>
        <p:spPr>
          <a:xfrm>
            <a:off x="755640" y="54450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Havířově, 3.5.2010                                                       Zpracovala: Wolná 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a</dc:creator>
  <dc:description/>
  <dc:language>en-US</dc:language>
  <cp:lastModifiedBy>eva</cp:lastModifiedBy>
  <dcterms:modified xsi:type="dcterms:W3CDTF">2011-04-11T08:39:38Z</dcterms:modified>
  <cp:revision>46</cp:revision>
  <dc:subject/>
  <dc:title>Nábytkářské materiály škodící zdraví a ekologii</dc:title>
</cp:coreProperties>
</file>